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6A9-2CCE-4983-BCA9-FA5C9873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B3C-C48C-43B7-A984-29B9EE21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02A-E330-4460-B8B0-A263C0F7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4A7-E71E-4134-8512-AAE089A5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C55-451F-4B44-86F7-6D1DDA7A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5A6-714B-42FA-B922-7C77EAB0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6834-2B71-4B05-A90E-F1CEC96E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80A-6616-40BC-ACB9-DF498743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6DF3-B003-4E9F-B416-969A11A1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2B4-42DC-4AD8-B90F-7F5A7009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4444-15B5-4989-B304-B09E64C6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B99-B69E-4F6D-89BD-1F4B168E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4FBA-158D-494A-B9E6-C07848EC0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cole d’Infirmière de la ville de Mas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8288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’ét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3526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fin d’études de l’année 19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HM00173_" descr=""/>
          <p:cNvPicPr/>
          <p:nvPr/>
        </p:nvPicPr>
        <p:blipFill>
          <a:blip r:embed="rId2"/>
          <a:stretch/>
        </p:blipFill>
        <p:spPr>
          <a:xfrm>
            <a:off x="7315200" y="2590920"/>
            <a:ext cx="156996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BD07834_" descr=""/>
          <p:cNvPicPr/>
          <p:nvPr/>
        </p:nvPicPr>
        <p:blipFill>
          <a:blip r:embed="rId3"/>
          <a:stretch/>
        </p:blipFill>
        <p:spPr>
          <a:xfrm>
            <a:off x="0" y="2590920"/>
            <a:ext cx="2104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05Z</dcterms:modified>
  <cp:revision>4</cp:revision>
  <dc:subject/>
  <dc:title>Présentation PowerPoint</dc:title>
</cp:coreProperties>
</file>